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8521-C485-4377-B06E-F7070B197682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14A8-C29E-4D45-B524-3053B25844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574-309F-458E-B355-2C2D72DE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148-609F-4EFF-A669-1072464C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0CE-94DE-45E3-B091-C2E89CE6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2B6-31CA-4D4F-87A4-8F077A16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94B-D0A0-4A01-9828-D40D50E3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40E-2257-4D7C-9499-AAEF61C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2CF-1C67-4593-B483-9C60F1A1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E42-769E-475F-8606-46F16DA6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DC7-518D-4E41-9B9A-93501B86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E34-7902-4547-8BDF-682E21E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9DB-8248-44D4-B5CB-941AF253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C70-CE9B-4250-A8FE-49B57E7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51C5-081E-43FB-BC56-7407CF1AD0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7" name="AutoShape 16"/>
          <p:cNvCxnSpPr>
            <a:stCxn id="172" idx="2"/>
            <a:endCxn id="173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8" name="AutoShape 17"/>
          <p:cNvCxnSpPr>
            <a:stCxn id="172" idx="2"/>
            <a:endCxn id="174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9" name="AutoShape 18"/>
          <p:cNvCxnSpPr>
            <a:stCxn id="172" idx="2"/>
            <a:endCxn id="175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0" name="AutoShape 19"/>
          <p:cNvCxnSpPr>
            <a:stCxn id="172" idx="2"/>
            <a:endCxn id="176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1" name="AutoShape 20"/>
          <p:cNvCxnSpPr>
            <a:stCxn id="170" idx="2"/>
            <a:endCxn id="171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2" name="AutoShape 21"/>
          <p:cNvCxnSpPr>
            <a:stCxn id="170" idx="2"/>
            <a:endCxn id="172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83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4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20" name="AutoShape 9"/>
          <p:cNvCxnSpPr>
            <a:stCxn id="219" idx="2"/>
            <a:endCxn id="215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1" name="AutoShape 10"/>
          <p:cNvCxnSpPr>
            <a:stCxn id="219" idx="2"/>
            <a:endCxn id="216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6" idx="2"/>
            <a:endCxn id="217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3" name="AutoShape 12"/>
          <p:cNvCxnSpPr>
            <a:stCxn id="216" idx="2"/>
            <a:endCxn id="218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24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8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46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53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66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8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8" name="AutoShape 7"/>
          <p:cNvCxnSpPr>
            <a:stCxn id="297" idx="2"/>
            <a:endCxn id="293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9" name="AutoShape 8"/>
          <p:cNvCxnSpPr>
            <a:stCxn id="297" idx="2"/>
            <a:endCxn id="294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0" name="AutoShape 9"/>
          <p:cNvCxnSpPr>
            <a:stCxn id="294" idx="2"/>
            <a:endCxn id="295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1" name="AutoShape 10"/>
          <p:cNvCxnSpPr>
            <a:stCxn id="294" idx="2"/>
            <a:endCxn id="296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02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65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9" name="AutoShape 4"/>
          <p:cNvCxnSpPr>
            <a:endCxn id="380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1" name="AutoShape 5"/>
          <p:cNvCxnSpPr>
            <a:stCxn id="378" idx="3"/>
            <a:endCxn id="382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3" name="AutoShape 6"/>
          <p:cNvCxnSpPr>
            <a:stCxn id="378" idx="3"/>
            <a:endCxn id="384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80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5" name="AutoShape 7"/>
          <p:cNvCxnSpPr>
            <a:stCxn id="394" idx="2"/>
            <a:endCxn id="390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6" name="AutoShape 8"/>
          <p:cNvCxnSpPr>
            <a:stCxn id="394" idx="2"/>
            <a:endCxn id="391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7" name="AutoShape 9"/>
          <p:cNvCxnSpPr>
            <a:stCxn id="391" idx="2"/>
            <a:endCxn id="392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8" name="AutoShape 10"/>
          <p:cNvCxnSpPr>
            <a:stCxn id="391" idx="2"/>
            <a:endCxn id="393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9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05" name="AutoShape 18"/>
          <p:cNvCxnSpPr>
            <a:stCxn id="392" idx="2"/>
            <a:endCxn id="399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6" name="AutoShape 19"/>
          <p:cNvCxnSpPr>
            <a:stCxn id="392" idx="2"/>
            <a:endCxn id="400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7" name="AutoShape 20"/>
          <p:cNvCxnSpPr>
            <a:stCxn id="392" idx="2"/>
            <a:endCxn id="401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8" name="AutoShape 21"/>
          <p:cNvCxnSpPr>
            <a:stCxn id="393" idx="2"/>
            <a:endCxn id="402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9" name="AutoShape 22"/>
          <p:cNvCxnSpPr>
            <a:stCxn id="393" idx="2"/>
            <a:endCxn id="403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3" idx="2"/>
            <a:endCxn id="404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4" name="AutoShape 7"/>
          <p:cNvCxnSpPr>
            <a:stCxn id="443" idx="2"/>
            <a:endCxn id="439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5" name="AutoShape 8"/>
          <p:cNvCxnSpPr>
            <a:stCxn id="443" idx="2"/>
            <a:endCxn id="440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9"/>
          <p:cNvCxnSpPr>
            <a:stCxn id="440" idx="2"/>
            <a:endCxn id="441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10"/>
          <p:cNvCxnSpPr>
            <a:stCxn id="440" idx="2"/>
            <a:endCxn id="442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8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2" name="AutoShape 24"/>
          <p:cNvCxnSpPr>
            <a:stCxn id="439" idx="2"/>
            <a:endCxn id="451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25"/>
          <p:cNvCxnSpPr>
            <a:stCxn id="439" idx="2"/>
            <a:endCxn id="450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26"/>
          <p:cNvCxnSpPr>
            <a:stCxn id="442" idx="2"/>
            <a:endCxn id="448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5" name="AutoShape 27"/>
          <p:cNvCxnSpPr>
            <a:stCxn id="442" idx="2"/>
            <a:endCxn id="449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6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7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3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24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7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1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7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6-05-03T14:52:09Z</dcterms:modified>
  <cp:revision>85</cp:revision>
  <dc:subject/>
  <dc:title>No Slide Title</dc:title>
</cp:coreProperties>
</file>